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4A3B-4831-4B04-A55F-9DB15B3F9A1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83BC-302A-4075-9DEE-00E2C70F558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Palatino Linotyp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1D32-24A8-4B5D-923A-BFC056614EC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EE95-9649-468C-B5B5-E3AB401A6C6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0014-A965-4CB0-9FBE-65834178D45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811F-AA20-4C60-8305-8E6D4E9A49C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111C-ECCF-458D-A75B-F230E3342EF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AC67-850E-4CE1-A41C-72534058B66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2295-A661-41DD-8B63-DC4B6BC4B56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CCF6-C289-4D36-9840-AFEF48874BB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9863-CF76-45CC-B1A0-3BECE989857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DBCC-27F0-4D58-ABC4-B54216EBFF9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CAF2-87E3-4E16-934B-72C98058214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E438-62DD-4660-A872-05CC830B7EA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A14E-95AA-41E9-9D46-9C1BB4CB476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A798-4344-4A46-BC36-009DAA5E9D6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F40D-A4AE-4672-8A1D-0140D0B4F82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BC3B-62E0-4EDA-88C9-95128CAA042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788C-C762-42C3-9801-E83741643EA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B38A-C66E-47E1-8B26-F45195CD4AA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61F2-13CD-484F-8B9B-EF66BE39470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02D6-23EC-42A0-AD3A-737B9B97C5A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A213-C070-4859-8EFD-4AEDB6B6A13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23DC-3E46-4731-B736-E53401EC7AF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7638-5882-47E4-A740-64BE84F5745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4D11-BB43-470B-B16F-BE96D0CFA9F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EB4F-0CB1-4FC5-9CE7-2231052CC0B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ADD-624B-42E4-A293-70E28B60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CAA-EE91-414B-923F-BF853983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CA60-8B5D-44DF-B8DF-C1DA7CCE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BA6A-59FD-41AA-A9E6-1060E8A0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53CD-A3B0-460A-B6E6-546398EA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DD5-1A63-426A-B5B1-E0BA3F95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8FF-641A-41D5-A988-D68B308E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BBD-C374-43DC-B178-FFF153B0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6473-20EF-4DFD-8C57-F16CAC7A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DFB-7BCA-41F5-B211-C7958D86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E6C-8229-495C-83C2-618F2723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B3B-5039-4AD2-813C-B25FFC77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23C7-0E10-4DF5-AB4C-0B048FF8C85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E2E0-D348-4891-B489-1603A82B314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ХРОНИЧНЕ ПЕРИАПИКАЛНЕ ЛЕЗИЈЕ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8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22- 24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Етиологија и патогенеза периапикалних лезија, класификација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периапикалних лезија, клиничка слика и дијагноза, лечење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периапикалних лезиј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7456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AF49-6488-4ED7-870B-E53BEFF2B59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57200" y="1684440"/>
            <a:ext cx="8205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а слика периапикалних лезија је често оскудна, сем у случајевима акутне егзарцебације и појаве дентогених инфек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присуство ових лезија треба посумњати увек када постоји некроза пулпе, осетљивост на вертикалну перкусију или палпаторна осетљивост у пределу апекса корена захваћеног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нам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даци од пацијента су веома оскудни. Углавном пацијент описује тегобе везане за пулпитичне болове зуба или стања акутне егзарцебације ( појаву болова и оток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0" y="6424560"/>
            <a:ext cx="3713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BAF0-F30D-46E0-8DAC-C33FBE2155E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457200" y="1442880"/>
            <a:ext cx="8145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линички прегл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кстраорална инспекција пружа податке или о постојању отока као последици акутне егзарцебације или о појави фистуле на кожи, што указује на присуство периапикалне л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траоралном инспекцијом зуба може се запазити постојање дубоких каријеса, као и дисколоритет зубне круне, што указује на постојање развијеног процеса одумирања ткива пул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C:\Users\Zoran\Downloads\oralna hirurgija\slike\images788877.jpg"/>
          <p:cNvPicPr/>
          <p:nvPr/>
        </p:nvPicPr>
        <p:blipFill>
          <a:blip r:embed="rId1"/>
          <a:stretch/>
        </p:blipFill>
        <p:spPr>
          <a:xfrm>
            <a:off x="3405240" y="4292640"/>
            <a:ext cx="207324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5767-C086-4A2C-B277-C24F371F3DD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57200" y="1697040"/>
            <a:ext cx="8205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јава тока и фистуле на слузокожи гребена, такође, указује на лезију у коштаном тки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стуле се, као последица периапикалних лезија, обично локализују интраорално на вестибуларној површини алвеоларног гребена. У случају латералних секутића и палатиналних коренова премолара и молара фистуле се могу наћи и са палатиналне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C:\Users\Zoran\Downloads\oralna hirurgija\slike\images556565.jpg"/>
          <p:cNvPicPr/>
          <p:nvPr/>
        </p:nvPicPr>
        <p:blipFill>
          <a:blip r:embed="rId1"/>
          <a:stretch/>
        </p:blipFill>
        <p:spPr>
          <a:xfrm>
            <a:off x="3186000" y="4102200"/>
            <a:ext cx="293076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B0C5-0644-40EB-9344-042A17FE929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57200" y="1720800"/>
            <a:ext cx="8193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алп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д постојања периапикалних лезија обично нема елонгације кости, често постоји блага осетљивост у висини врхова корена зуба на палпац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ерку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етљивост на вертикалну перкусију зуба је позитивна јер се притисак преноси дуж аксијалне осовине зуба на предео где се и иначе дешавају инфламаторни проце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Сондирање и тест виталитет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9C3C-AC12-4879-8F01-1B91B9E868A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444600" y="1647720"/>
            <a:ext cx="8518320" cy="44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Радиографска дијагно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мена ове дијагностике, када се сумња на постојање периапикалне лезије, врши се са циљ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ијагностике лезије (облик, величина, локализација, структура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иференцијалне дијагностике (цистични тумори вилица, системске коштане лез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ређивања индикација за опер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аћења постоперативног  тока и зарас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0" y="6465960"/>
            <a:ext cx="38098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724A-153D-4849-9DD5-2507BDECCD9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436680" y="1413000"/>
            <a:ext cx="8157960" cy="51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бра радиографска интерпретација је основ за правилно постављену дијагнозу и одређивање врсте терап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току анализе радиографије посебно се обраћа пажња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ање ламине д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ање периодонталне мемб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чуваност архитектуре алвеоларне кости (склероза, деминерализ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ање каналног система (проширен, суж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епен проходности канала (интерна ресорпција или калцифика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34F6-7720-4D47-B527-26CC4869A80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444600" y="1660680"/>
            <a:ext cx="820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ЕРИАПИКАЛНИ ГРАНУ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C:\Users\Zoran\Downloads\oralna hirurgija\slike\pg.jpg"/>
          <p:cNvPicPr/>
          <p:nvPr/>
        </p:nvPicPr>
        <p:blipFill>
          <a:blip r:embed="rId1"/>
          <a:stretch/>
        </p:blipFill>
        <p:spPr>
          <a:xfrm>
            <a:off x="163440" y="2568600"/>
            <a:ext cx="2357640" cy="302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C:\Users\Zoran\Downloads\oralna hirurgija\slike\images77.jpg"/>
          <p:cNvPicPr/>
          <p:nvPr/>
        </p:nvPicPr>
        <p:blipFill>
          <a:blip r:embed="rId2"/>
          <a:stretch/>
        </p:blipFill>
        <p:spPr>
          <a:xfrm>
            <a:off x="6626160" y="2481120"/>
            <a:ext cx="2282760" cy="3060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C:\Users\Zoran\Downloads\oralna hirurgija\slike\download (28).jpg"/>
          <p:cNvPicPr/>
          <p:nvPr/>
        </p:nvPicPr>
        <p:blipFill>
          <a:blip r:embed="rId3"/>
          <a:stretch/>
        </p:blipFill>
        <p:spPr>
          <a:xfrm>
            <a:off x="3052800" y="3117960"/>
            <a:ext cx="3343320" cy="20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A9BB-E2EA-44BB-B84D-8351A818BD3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444600" y="1697040"/>
            <a:ext cx="82184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ПЕРИАПИКАЛНА  (РАДИКУЛАРНА) Ц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анифестује се на радиограму као јасно ограничено расветљење у пределу врха корена зуба, округлог или овалног об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http://www.dental-centar-omega.hr/aploads/images/kirurgija/balen%201.jpg"/>
          <p:cNvPicPr/>
          <p:nvPr/>
        </p:nvPicPr>
        <p:blipFill>
          <a:blip r:embed="rId1"/>
          <a:stretch/>
        </p:blipFill>
        <p:spPr>
          <a:xfrm>
            <a:off x="2976480" y="37339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D525-17C1-4C1C-B388-8C93E494B2B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444600" y="1432080"/>
            <a:ext cx="8121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ЕРИАПИКАЛНИ ФИБРОЗНИ ОЖИЉЦИ И ТУМОРИ КОШТАНОГ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парација фиброзним везивним ткивом након уклањања цисте или гранулома, може да буде погрешно дијагностикована као периапикална лез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умори, одонтогени или неодонтогени могу такође да се јаве у апикалном пределу зуба, када радиографски могу да личе на периапикалне грануломе. У тим случајевима веома често је позитиван тест виталитет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418A-986D-4462-B7E5-8BC4EB881E1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457200" y="1671480"/>
            <a:ext cx="815832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ндодотска терапија од 85 до 95%, ендодонтско хируршка терапија од 5 до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о лечење периапикалних лезија треба примењивати у случајевима када с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и и радиографски установи да није могуће ендодонтско леч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станови да предходно ендодонтско лечење није било успеш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предходна дијагностика укаже на неодонтогено порекло апикалне л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A669-FFA1-4D64-80AD-349A179D630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Етиологија и патогенез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57200" y="1419120"/>
            <a:ext cx="8182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Периапикалне лезије  су патолошке промене које настају на врху коренова авиталних зуба, када некротични садржај канала корена, вршећи сталну иритацију апикалног предела, условљава појаву хроничне инфлам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оци некрозе пулпе могу да буду различити, мада се, као најважнији етиолошки фактор, најчешће описује каријес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, траума, хемијска, термичка нек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HemiSekcija.avi" descr=""/>
          <p:cNvPicPr/>
          <p:nvPr/>
        </p:nvPicPr>
        <p:blipFill>
          <a:blip r:embed="rId1"/>
          <a:srcRect l="25767" t="3319" r="9865" b="7333"/>
          <a:stretch/>
        </p:blipFill>
        <p:spPr>
          <a:xfrm>
            <a:off x="3159000" y="3913200"/>
            <a:ext cx="270360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4273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30B8-54C8-4E00-BF28-94A6CEA70F4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420840" y="1708200"/>
            <a:ext cx="822960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о лечење периапикалних лезија, у основи, подразумева три могућа поступ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кстракцију зуба и детаљну киретажу периапикалне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секцију корена зуба и киретажу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мпутацију и уклањање дела или целог корен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35F1-725B-4E28-8702-0045F2249EA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444600" y="1612800"/>
            <a:ext cx="8181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ЕКСТРАКЦИЈ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 све ређе примењује као терапијска опција. Разлози за овакав став су велика потреба за очувањем зуба ради израде фиксних протетских рад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рактичном раду, екстракцију зуба треба радити само у случајевима када су периапикалне лезије проширене преко половине корена, а пародонтално оштећене у таквом стадијуму да се не може обезбедити стабилност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акође, екстракцију зуба треба предузети и у случају сумње на фокални узрок обољења и када објективно постоји ризик за потпуни успех хируршког леч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82C0-9641-4BF6-8980-BFCE099E2B1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444600" y="1587600"/>
            <a:ext cx="86994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о лечење (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ресекција корена зуб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) представља сигуран и у највећем броју случајева успешан поступак којим се уклања периапикална лезија и збрињава и оптурира канал корен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Индикациј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асно ограничене периапикалне лезије већих димен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кстремне апикалне повијености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бијање корена у апикалном делу (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fousse route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ili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via fals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ломљени канални инструмент у апикалном делу канала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тиснуто канално пуњење у зону периапекса, нос или син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лом врха корен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треба лечења периапикалних лезија на више зуба у једној сеан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треба за брзим успехом у лечењ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E1BF-FABA-4F54-BDD0-F368118FC4F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198360" y="1647720"/>
            <a:ext cx="8813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дицинске контраиндикације су релативне и обично након адекватне припреме пацијента, може се извршити хируршки поступ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Локалне контраиндикац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утна обољења дес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шке форме пародонтопатија са екстремним клаћењем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ша орална хигиј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слаге и зубни камена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ступак хируршког лечења  подразумева медикаментно-механичку обраду канала корена и његову оптурацију одговарајућим материј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3D52-8439-4C05-82B1-62FA0B7F6A3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57200" y="164772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ИЗБОР ВРСТЕ Р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стибуларни режње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лукружни режањ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artcsh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C:\Users\Zoran\Downloads\oralna hirurgija\slike\images (1).jpg"/>
          <p:cNvPicPr/>
          <p:nvPr/>
        </p:nvPicPr>
        <p:blipFill>
          <a:blip r:embed="rId1"/>
          <a:stretch/>
        </p:blipFill>
        <p:spPr>
          <a:xfrm>
            <a:off x="158760" y="3844800"/>
            <a:ext cx="2687760" cy="201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C:\Users\Zoran\Downloads\oralna hirurgija\slike\download (29).jpg"/>
          <p:cNvPicPr/>
          <p:nvPr/>
        </p:nvPicPr>
        <p:blipFill>
          <a:blip r:embed="rId2"/>
          <a:srcRect l="7360" t="3623" r="14883" b="13025"/>
          <a:stretch/>
        </p:blipFill>
        <p:spPr>
          <a:xfrm>
            <a:off x="3176640" y="3549600"/>
            <a:ext cx="1949400" cy="2430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Zoran\Downloads\oralna hirurgija\slike\captura-de-pantalla-2013-09-13-a-las-15-50-42.png"/>
          <p:cNvPicPr/>
          <p:nvPr/>
        </p:nvPicPr>
        <p:blipFill>
          <a:blip r:embed="rId3"/>
          <a:stretch/>
        </p:blipFill>
        <p:spPr>
          <a:xfrm>
            <a:off x="5332320" y="3943440"/>
            <a:ext cx="352764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6BB7-8BB2-42ED-BD5F-C9D32BB3F83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81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457200" y="1419120"/>
            <a:ext cx="818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апезасти режањ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Novak-Peter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C:\Users\Zoran\Downloads\oralna hirurgija\slike\captura-de-pantalla-2013-09-13-a-las-15-00-29.png"/>
          <p:cNvPicPr/>
          <p:nvPr/>
        </p:nvPicPr>
        <p:blipFill>
          <a:blip r:embed="rId1"/>
          <a:srcRect l="0" t="1522" r="49206" b="0"/>
          <a:stretch/>
        </p:blipFill>
        <p:spPr>
          <a:xfrm>
            <a:off x="2770200" y="1876320"/>
            <a:ext cx="3106800" cy="45370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9"/>
          <p:cNvSpPr/>
          <p:nvPr/>
        </p:nvSpPr>
        <p:spPr>
          <a:xfrm>
            <a:off x="5137200" y="3705120"/>
            <a:ext cx="7351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5149800" y="4656240"/>
            <a:ext cx="73332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1B00-72F5-4ED3-8D53-962E04542F0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420840" y="1684440"/>
            <a:ext cx="81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гаони режа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1" descr="S8001206"/>
          <p:cNvPicPr/>
          <p:nvPr/>
        </p:nvPicPr>
        <p:blipFill>
          <a:blip r:embed="rId1"/>
          <a:srcRect l="4716" t="11492" r="14790" b="64"/>
          <a:stretch/>
        </p:blipFill>
        <p:spPr>
          <a:xfrm>
            <a:off x="828720" y="2387520"/>
            <a:ext cx="4089240" cy="3059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S8001336"/>
          <p:cNvPicPr/>
          <p:nvPr/>
        </p:nvPicPr>
        <p:blipFill>
          <a:blip r:embed="rId2"/>
          <a:srcRect l="24804" t="4012" r="22824" b="15758"/>
          <a:stretch/>
        </p:blipFill>
        <p:spPr>
          <a:xfrm>
            <a:off x="5246640" y="2286000"/>
            <a:ext cx="320508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647B-0663-414C-B4A3-ADA73C2E279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444600" y="1684440"/>
            <a:ext cx="8205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латинални режње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лкусни палатинални режањ (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Wassmund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S8001212"/>
          <p:cNvPicPr/>
          <p:nvPr/>
        </p:nvPicPr>
        <p:blipFill>
          <a:blip r:embed="rId1"/>
          <a:stretch/>
        </p:blipFill>
        <p:spPr>
          <a:xfrm>
            <a:off x="2357280" y="3063960"/>
            <a:ext cx="396108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1F96-E1B0-4F33-8EE4-2081FE2A299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517680" y="1612800"/>
            <a:ext cx="792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ингивални палатинални режањ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Matis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S8001331"/>
          <p:cNvPicPr/>
          <p:nvPr/>
        </p:nvPicPr>
        <p:blipFill>
          <a:blip r:embed="rId1"/>
          <a:stretch/>
        </p:blipFill>
        <p:spPr>
          <a:xfrm>
            <a:off x="2239920" y="2421000"/>
            <a:ext cx="48243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9280-6DF4-4573-99F8-E1D2F6F0078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279360" y="1612800"/>
            <a:ext cx="832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дразумева уклањање патолошке лезије са врха корена зуба и потпуну оптурацију канала кор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е фазе ра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S8001214"/>
          <p:cNvPicPr/>
          <p:nvPr/>
        </p:nvPicPr>
        <p:blipFill>
          <a:blip r:embed="rId1"/>
          <a:stretch/>
        </p:blipFill>
        <p:spPr>
          <a:xfrm>
            <a:off x="181080" y="31417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S8001215"/>
          <p:cNvPicPr/>
          <p:nvPr/>
        </p:nvPicPr>
        <p:blipFill>
          <a:blip r:embed="rId2"/>
          <a:stretch/>
        </p:blipFill>
        <p:spPr>
          <a:xfrm>
            <a:off x="4937040" y="3105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Етиологија и патогенез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0" y="6424560"/>
            <a:ext cx="3727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90CA-3A80-44A2-97D4-608EF79F0DB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469800" y="1731960"/>
            <a:ext cx="8120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фламаторна реакција условљава активацију ћелијских и хуморалних медијатора, који утичу на даљу прогредијенцију деструкције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ђу ћелијским медијаторима који учествују у механизмима развоја ових реакција, најважнији су макрофаги, плазмоцити, лимфоцити и мастоци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лога ћелијских елемената је одржавање ћелијских механизама одбране организма од штетних нокси, али и улога у синтези хуморалних медијатора запаљ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E1DB-6439-4AA5-94D8-A5C84E79902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9" descr="S8001216"/>
          <p:cNvPicPr/>
          <p:nvPr/>
        </p:nvPicPr>
        <p:blipFill>
          <a:blip r:embed="rId1"/>
          <a:stretch/>
        </p:blipFill>
        <p:spPr>
          <a:xfrm>
            <a:off x="252360" y="2262240"/>
            <a:ext cx="4356000" cy="3035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S8001219"/>
          <p:cNvPicPr/>
          <p:nvPr/>
        </p:nvPicPr>
        <p:blipFill>
          <a:blip r:embed="rId2"/>
          <a:stretch/>
        </p:blipFill>
        <p:spPr>
          <a:xfrm>
            <a:off x="4619520" y="2249640"/>
            <a:ext cx="435636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363D-2222-4D70-9D09-617B08A02C9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32" name="Picture 9" descr="S8001220"/>
          <p:cNvPicPr/>
          <p:nvPr/>
        </p:nvPicPr>
        <p:blipFill>
          <a:blip r:embed="rId1"/>
          <a:stretch/>
        </p:blipFill>
        <p:spPr>
          <a:xfrm>
            <a:off x="299880" y="2378160"/>
            <a:ext cx="3934080" cy="295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S8001221"/>
          <p:cNvPicPr/>
          <p:nvPr/>
        </p:nvPicPr>
        <p:blipFill>
          <a:blip r:embed="rId2"/>
          <a:stretch/>
        </p:blipFill>
        <p:spPr>
          <a:xfrm>
            <a:off x="4883040" y="241452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3225-33FF-47F6-92C2-2C350235838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38" name="Picture 11" descr="S8001222"/>
          <p:cNvPicPr/>
          <p:nvPr/>
        </p:nvPicPr>
        <p:blipFill>
          <a:blip r:embed="rId1"/>
          <a:stretch/>
        </p:blipFill>
        <p:spPr>
          <a:xfrm>
            <a:off x="336600" y="2403360"/>
            <a:ext cx="3933720" cy="2951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C:\Users\Zoran\Downloads\oralna hirurgija\slike\images.jpg"/>
          <p:cNvPicPr/>
          <p:nvPr/>
        </p:nvPicPr>
        <p:blipFill>
          <a:blip r:embed="rId2"/>
          <a:srcRect l="14278" t="3298" r="16186" b="10192"/>
          <a:stretch/>
        </p:blipFill>
        <p:spPr>
          <a:xfrm>
            <a:off x="5846760" y="4138560"/>
            <a:ext cx="2084400" cy="2160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C:\Users\Zoran\Downloads\oralna hirurgija\slike\imagesCA4BZV1B.jpg"/>
          <p:cNvPicPr/>
          <p:nvPr/>
        </p:nvPicPr>
        <p:blipFill>
          <a:blip r:embed="rId3"/>
          <a:srcRect l="52367" t="44628" r="1007" b="6465"/>
          <a:stretch/>
        </p:blipFill>
        <p:spPr>
          <a:xfrm>
            <a:off x="5715000" y="1395360"/>
            <a:ext cx="221940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C800-BB6A-44A3-A90F-AD02E66F875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45" name="Picture 7" descr="cistektomija 43 i 12,11 sa intraop"/>
          <p:cNvPicPr/>
          <p:nvPr/>
        </p:nvPicPr>
        <p:blipFill>
          <a:blip r:embed="rId1"/>
          <a:stretch/>
        </p:blipFill>
        <p:spPr>
          <a:xfrm>
            <a:off x="2128680" y="3154320"/>
            <a:ext cx="4500720" cy="24670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8"/>
          <p:cNvSpPr/>
          <p:nvPr/>
        </p:nvSpPr>
        <p:spPr>
          <a:xfrm>
            <a:off x="480960" y="1636560"/>
            <a:ext cx="812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ртоградна оптурација канала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0" y="6424560"/>
            <a:ext cx="3699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19D0-98B3-4382-B4E9-4D088D01C17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433440" y="1395360"/>
            <a:ext cx="8205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Ретроградна опту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литерисани канали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потпуно канално пуњење код зуба са протетским ра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тетски збринут зуб са кочићем без предходног лечења ка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S8001228"/>
          <p:cNvPicPr/>
          <p:nvPr/>
        </p:nvPicPr>
        <p:blipFill>
          <a:blip r:embed="rId1"/>
          <a:stretch/>
        </p:blipFill>
        <p:spPr>
          <a:xfrm>
            <a:off x="157320" y="3236760"/>
            <a:ext cx="4211640" cy="3159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S8001229"/>
          <p:cNvPicPr/>
          <p:nvPr/>
        </p:nvPicPr>
        <p:blipFill>
          <a:blip r:embed="rId2"/>
          <a:stretch/>
        </p:blipFill>
        <p:spPr>
          <a:xfrm>
            <a:off x="4702320" y="3213000"/>
            <a:ext cx="428436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D676-3B23-41EF-ACE7-27B89FD2DFC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59" name="Picture 11" descr="S8001230"/>
          <p:cNvPicPr/>
          <p:nvPr/>
        </p:nvPicPr>
        <p:blipFill>
          <a:blip r:embed="rId1"/>
          <a:stretch/>
        </p:blipFill>
        <p:spPr>
          <a:xfrm>
            <a:off x="228600" y="2471760"/>
            <a:ext cx="4284720" cy="3214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S8001231"/>
          <p:cNvPicPr/>
          <p:nvPr/>
        </p:nvPicPr>
        <p:blipFill>
          <a:blip r:embed="rId2"/>
          <a:stretch/>
        </p:blipFill>
        <p:spPr>
          <a:xfrm>
            <a:off x="4667400" y="2482920"/>
            <a:ext cx="4211640" cy="31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058E-7F00-45ED-B891-CC58029ADA3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5" name="TextBox 7"/>
          <p:cNvSpPr/>
          <p:nvPr/>
        </p:nvSpPr>
        <p:spPr>
          <a:xfrm>
            <a:off x="488880" y="1728720"/>
            <a:ext cx="8217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2" descr="S8001235"/>
          <p:cNvPicPr/>
          <p:nvPr/>
        </p:nvPicPr>
        <p:blipFill>
          <a:blip r:embed="rId1"/>
          <a:srcRect l="5333" t="-203" r="10721" b="8052"/>
          <a:stretch/>
        </p:blipFill>
        <p:spPr>
          <a:xfrm>
            <a:off x="181080" y="2325600"/>
            <a:ext cx="4356000" cy="3268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S8001234"/>
          <p:cNvPicPr/>
          <p:nvPr/>
        </p:nvPicPr>
        <p:blipFill>
          <a:blip r:embed="rId2"/>
          <a:srcRect l="23138" t="-206" r="22536" b="1521"/>
          <a:stretch/>
        </p:blipFill>
        <p:spPr>
          <a:xfrm>
            <a:off x="4606920" y="2325600"/>
            <a:ext cx="4356000" cy="32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60FC-EEAC-48FD-A66B-6ABE30BB64C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ресекције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469800" y="1852560"/>
            <a:ext cx="81090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нтраоперативна крвар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вреде суседних анатомских 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вреда суседних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вреда не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Етиологија и патогенез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3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2EB9-0105-4AF5-961E-9D733B433C9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469800" y="2081160"/>
            <a:ext cx="8180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ђу хуморалним медијаторима запаљења најважнији су медијатори коштане ресорпције: простангладини, фактори остеокластичне активације, комплемент, лизозоми и имуноглобулини продубљују реакцију у периапикалном ткиву и учествују у разградњи коштаног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ханизми настанка и раста периапикалних лезија су релативно сложени и одвијају се под непосредним учешћем имунопатолошких механизама чији процеси, у случају одлагања лечења, доводе до веће деструкције коштаног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асификациј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257C-8E99-4AC6-A360-84B1495D000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228600" y="1563840"/>
            <a:ext cx="8194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ршена је на основу хистолошке грађе, одређиване после хируршког уклањ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апикални процеси се данас називају – хроничним периапикалним инфламаторним лезиј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нија класификација је углавном вршена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arodontitis apicalis chronica fib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arodontitis apicalis chronica dif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arodontitis apicalis chronica circumscrip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C:\Users\Zoran\Downloads\oralna hirurgija\slike\download (26).jpg"/>
          <p:cNvPicPr/>
          <p:nvPr/>
        </p:nvPicPr>
        <p:blipFill>
          <a:blip r:embed="rId1"/>
          <a:stretch/>
        </p:blipFill>
        <p:spPr>
          <a:xfrm>
            <a:off x="5846760" y="3833640"/>
            <a:ext cx="329724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асификациј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9D88-18FC-4315-8209-A3B6FC2F115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457200" y="1768320"/>
            <a:ext cx="813276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Spatafore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199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апикални грану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куларна ц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апикални ожиљ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тале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асификациј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9A7A-EE7B-4077-8F82-67815E4D4C3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366840" y="1503360"/>
            <a:ext cx="8405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ЕРИАПИКАЛНИ ГРАНУЛОМ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Н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јчешће се среће на врху корен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киво ових лезија саграђено је  од хронично инфламираног везивног ткива, при чему су поједине компоненте (запаљенски инфилтрат, гранулације, фиброплазија) изражене у различитом степе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централном делу гранулома налазе се гранулације и инфламаторни инфилтрат, а на периферији доминира фиброплазија која формира више или мање изражену везивно-ткивну капс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паљенски инфилтрат гранулома чине ћелије хроничног запаљења (плазмоцити, лимфоцити, макрофаги и гранулоци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6B3E-CE9E-4E5C-8FFD-5A215AE43B4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асификациј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33440" y="1757520"/>
            <a:ext cx="8217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зависности од доминације појединих компонената запаљења, грануломи су дефинисани као грануломатозни, фиброзни, ексудативни или епител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РАДИКУЛАРНА (ПЕРИАПИКАЛНА) Ц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лезија која настаје даљом прогредијенцијом епителних гранулома. Настају лезије које имају лумен испуњен садржајем и омот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мотач радикуларних циста се састоји од  два слоја: спољашњег састављеног од везивног ткива и унутрашњег који је изграђен  од епи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AEDF-BC4E-47B8-85F6-7CBB7938B19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асификациј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469800" y="1684440"/>
            <a:ext cx="8120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ЕРИАПИКАЛНИ ОЖИЉАК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лезија која се налази на врху корена хируршки лечених зуба и на радиографији имитирају присуство гранул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столошки, изграђени су од фиброзног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СТАЛЕ ПЕРИАПИКАЛНЕ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друге патолошке творевине које нису дентогеног порек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ка развојна обољења (цементно-осеална дисплазиј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ематолошка обољења (хронична лимфоцитна леукемиј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енигни тумори (фибром, остеобластом, одонтогени микс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алигни метастатски тумори (карцином дојке, бубрега, остеосарк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Каја</dc:creator>
  <dc:description/>
  <dc:language>en-US</dc:language>
  <cp:lastModifiedBy>Korisnik</cp:lastModifiedBy>
  <dcterms:modified xsi:type="dcterms:W3CDTF">2019-09-09T16:03:16Z</dcterms:modified>
  <cp:revision>1499</cp:revision>
  <dc:subject/>
  <dc:title>NAZIV PREDAVANJA</dc:title>
</cp:coreProperties>
</file>